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EEC9-24C0-4354-9525-79816197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62307-D6A2-47A7-90A7-36EBE0D8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AED12-A08D-44C5-81DB-4D49C256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A344-B3D5-4AFA-AAC4-63536484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CFE2-57AC-4F22-BF3C-11817327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1541-A731-4153-A453-A0073AE1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DF78-7A8B-42D5-BCEC-3E90D1AB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F89A-7A0D-4696-8C48-040DBBBE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50F3-8DFE-4B14-B8BD-F5B1B313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4941-DCDB-4287-AC08-B47CB092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D140-6890-4D33-B21E-D6E2018F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10B63-FD16-4E7D-A5D0-F7A3F9DC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FB31-EACE-49A7-B8AA-24B027F6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ECD0-DDD9-4212-BB00-33CD151E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131A-250A-4539-9E2F-32E81ABB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97CE-BC01-474F-94CA-3F7C131B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0607-DCBD-4262-9E86-F3419D80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FE8E8-6CC6-429E-90E9-2B2101C9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200E4-BE32-4FAA-9547-3D8DED43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B2AE3-7000-4849-A632-5C7D44DA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4C39-9F2D-427B-AFA2-C5B5A3B0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9DE8F-89E9-4439-AD19-8453EFF4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4033D-121A-4E25-98E2-A027E114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FEEC-60D7-4A7D-921C-177E5973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2DAA-F243-4419-94FA-FE59E14970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5E76-13C9-45CF-85C3-A5CEAF0EBE7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sdom Literature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(Of the United Kingdom Period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ng of Solo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 Lesson of Quarter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asic Poi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ch the little foxes – remove the destructive things that can ruin a good marri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love al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love p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United Kingdo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alms (many of the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erbs (most of the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clesias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g of Solo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038120" y="5181480"/>
            <a:ext cx="12956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uthor -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rote 1,005 songs (1 Kings 4: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as a reason why the Holy Spirit inspired someone to write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as a reason why it is included in B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etting -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ossibiliti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may be Solomon and his new bride as they seek to resolve their differences and come to a loving relationshi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may be Solomon trying to win the love of a maiden who loves an humble shephe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dron suggests the second of these as our basis for interpreting the b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ong of Solom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Old Testament book written in the form of a lyrical love so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interpreters believe this song speaks symbolically of the love of God for the nation of Isra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ology of Christ and His Bride, The Chu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lly, a healthy attraction of love and marri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 Poem With Three Speaker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1) the groom, King Solomon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2) the bride, a woman referred to as "the Shulamite" (6:13); 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3) the "daughters of Jerusalem" (2:7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wo Major Section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eginning of love  (1-4)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roadening of love  (5-8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asic Out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ts Preceding The Wedding 1:1 -3: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ide: Tells of her attraction to Solom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om: Tells of his attraction to 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ts Accompanying The Wedding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:6 – 5: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ming of Solomon   3: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arriage  - 3:7-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rown  - 3: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mpliments to his bride – 4:1-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mment of his wife – 4: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mment of the young women – 5: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asic Out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ts Following the Wedding Nigh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5:2 – 8: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regard to the w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dream  5:2-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desire – 7:10 – 8: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description of her lover  5:10-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description of her love – 8:6-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regard to the husband – 6:4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21:10:20Z</dcterms:created>
  <dc:creator>Terry W. Benton</dc:creator>
  <dc:description/>
  <dc:language>en-US</dc:language>
  <cp:lastModifiedBy>Frank D Vines</cp:lastModifiedBy>
  <dcterms:modified xsi:type="dcterms:W3CDTF">2005-09-25T06:39:04Z</dcterms:modified>
  <cp:revision>2</cp:revision>
  <dc:subject/>
  <dc:title>Wisdom Literature (Of the United Kingdom Period)</dc:title>
</cp:coreProperties>
</file>